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coin.wav" ContentType="audio/x-wav"/>
  <Override PartName="/ppt/media/image4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E35F-4A87-470A-865B-028ACC9F9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F73A-7ACC-4C90-A45B-6FF2271A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91A-A1FA-4D81-BFCC-43AD649DF5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6AD-C704-4BBF-8890-4E4E314E937E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9345-B800-41E3-90B6-C7583F88B29F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AEA-0319-42D0-8D2C-35DC00DB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832-8A83-406E-A8A8-58A45C13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D1193-574B-4D9C-9D74-BBEB593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FD153-8E30-4805-85D2-BF867A1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B4141-1037-46A0-BEF7-8858F15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BCF1D-F15C-4563-9074-76DFF9C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B743-0462-4973-9EBB-918985F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A4C88-9111-4365-A3B3-A7144C1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2ABED-8729-4F54-B29F-398CDFE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4B1A8-3C8F-4D48-8A9E-3A34BC58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773C-8169-4514-9859-87205FBA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B2F0D-6E8A-4A58-8DBB-FD510195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F05-3383-4CB1-905C-06073039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FC860-BF26-4537-8E85-D78FF64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0BC19-29F7-4E4E-B075-B868DEE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79A71-D0D1-40C7-89A5-9841AA59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8B10-11A3-4A4E-81D3-B83FF91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3D122-14CD-47AE-B8AB-C69663F5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1EF2B-A00A-4190-9F92-1C48CD4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34FF4-3590-41FF-98DE-A7D6692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FE9D9-C6CB-45BE-B80E-FFC961E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C9303-01BE-4E19-8222-58AE6B1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34F63-F9D8-41D7-9446-4BA80CD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048-B076-43D5-B4D5-1626DA80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B2B8F-0DD0-413D-A595-A4F2434D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538F-F5E3-4C20-8216-BEFDD9C1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53E3-0110-4E39-B2CC-0F693FE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C385F3-6A22-4797-8622-3FB4690D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24996-9D9D-4ED7-918F-1E4F29E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FB1092-131D-451D-933C-3EA15B2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C888BE-D86A-4A4F-8244-C498099F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81F302-AEB4-4FA4-9CB0-A582B23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C464-5C2C-43B4-A751-C2ABAF00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2A4598-A246-4682-A834-7F14CA0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04EB1C-8190-4E66-AC9C-3CCA197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EDA540-5F41-4B9C-BD19-147B2D6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302D05-1BED-4B34-B2E2-4E0A864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B4F111-F59B-4B8D-9579-795D3EB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C359EC-F362-47A1-903A-8C32EFDE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EB5AFD-CDDB-4704-9B36-6E317872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47159C-EAD0-4C89-8228-351C4A16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558BBA-A15D-4EE9-BDE2-7195FCE4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4EE320-68CC-4D56-AB26-4472A71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4616-2CBA-42EC-81AD-5E50978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4F26F8-2E55-4F71-AC0A-D125F94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EFC58C-D830-4879-8A10-543B8AC6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A004CB-9A2D-4EEA-8189-1A873052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FB85A6-2CD8-44A0-9E31-96C0F92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746D99-5B87-489C-B135-1E64FEA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F22C7A-12FE-4921-9724-797E4B5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1F6DDD-6123-47A7-95D0-BF3DA4C1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65E00C-94F0-42F7-801C-4C46382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18A578-A095-470A-9C4D-1BA8EBDA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BD4B01-AE19-4B08-9BF2-A102333A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7CE-8030-460A-B7FC-AF554E3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CD7F4C-81FF-44C2-BC67-FE8B790B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CA05BF-3CC8-474E-BB42-8541AB4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9F3992-8E88-4711-BF69-21B9F989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24BE52-EAC0-4990-BF02-6481277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444CBE-46A8-4566-8E9D-7C6140E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004D66-775A-42E2-B2EA-F6716A95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0BBFDF-042F-4D7F-B054-EE89EF9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3A03BF-DA0A-4B04-AC7C-8AE696B5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518BB7-63CE-4DA1-8EA4-13220BD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7179E4-3955-44A6-8D56-A6254F6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1BD-CC47-43C0-845D-696B0FB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07FE50-F12E-4861-992F-98835E9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775A88-3C07-494F-A318-01A3C748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A699A0-A7F0-42E3-9884-EB7BC4F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CD8132-1638-4A87-BDA8-08A715A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0E10DA-65E6-41A8-93E2-EC04AC85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87F19B-36EC-49E4-8D40-E67CC1D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B8D4BF-ED95-4EB1-9C7C-0653B702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779194-FF32-4E03-86BA-CAF6C3A9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26E3C1-64D4-4D05-B2B3-7AB5381D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2FDA28-969D-450B-849B-06048F0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B8CC-A133-4FDF-81AD-7691E63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002271-A59D-4C67-B07E-6D8E7A25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2040FC-D422-4651-BCDD-FD9987F7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055606-6ECE-4C27-99FD-62C1C148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689-A9D2-42BE-9C6D-3226C0C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4E27-86D6-4D7E-B4DB-E29F529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01F-F196-4B43-AF2F-47DB804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490-C970-416A-A0A1-B35B87E7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0E29-7FBB-46A5-875F-CDEB80FE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77D2-9D97-4101-874A-75656140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C0B3-9093-49C4-B5F7-4DE88245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8D20-9113-494C-9BA0-6422C83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8F5B-D72C-404B-AC5E-8E2B992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E212-8904-4E07-9853-8238F0F0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29A9-F2B5-41EA-8210-F0A9437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6F4-29B1-4BAB-86BE-F4A8581E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4A11-C593-46D4-803E-C434E2A5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25EB-A45E-44FE-927C-7420588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1326-B694-4134-BA95-F4F3588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9BD8-1E2C-49E3-9380-287EBBF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501B-6355-43BA-9308-0F4EDE4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8BF7-7F4F-4A69-8866-5D107BD7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6EED-A7A3-40DA-8D13-C87DD99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136D-BFB8-4AA1-9103-0E41A521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0DF1-4EE3-44F7-A2BC-4D092DC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AE25-D443-4C6A-B137-B336D587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CD4-E1CE-4708-8001-15C3F2E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7659-6005-408F-93A2-051CF273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D0D1-C882-4707-AFA1-E67041EA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06E5-F1E5-46F1-9281-F32A366D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6D85-D891-4DCE-9103-9673914C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C0BC-3A94-4D95-BD63-B501BE7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0E72-EAC4-41B2-B687-13FF892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03B9-1BA7-49DB-9201-90EF79CC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06D8-22E4-4618-AD7B-67AF28CA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B9AC-BB17-4AC3-BEAA-E1BF45CD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DD5C-202D-44F3-9645-1E46B50A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0DB-DA0B-4C52-8D4B-52260534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0EDF-3B4F-4760-8714-F46D71D2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C19C-5142-46B4-B0E6-2075C62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57BB-CE1C-40ED-876F-A48167BA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898A-605E-481C-9FB5-4B2784F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570C-6231-4335-AD72-86627FF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922B-ACE9-4E7A-B835-DF6FBA7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33F7-8F76-4AF6-B5FD-A786C56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5425-6785-4E9C-AF34-D9300394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C5C9-AB97-4BD9-AB23-99CA8DE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4080-19B4-441F-A00E-930D8B07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928-D8CF-4D9D-8046-911B8E1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BCAB6-725E-430E-91AE-51AA5C1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9E67-48DA-4273-80B2-C29522DF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A73E-8926-42DE-ADEC-F8DA46B8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0723-2887-4D80-8D46-1DCB307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8F01-5878-4486-BF89-5882FB21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FEDD-59D2-4E9D-969F-7B013B2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DCBD-CFB8-47AF-BFB2-46985CC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FF7B-A3AC-4518-A130-57A6DAA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DC47C-31C9-4034-AAA8-6C757C4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03D0C-4AE3-4A01-B4C0-7F825A9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8DC-0C64-4497-B9BC-78B92D8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B4940-82E3-4043-AD51-FDC05949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9650-0ED8-4741-8E3F-259E72DC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B4E27-46FA-4CF6-83E8-B0A8BD7D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4D98-2821-43F2-9861-8E6E203E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DBD6B-AD26-4226-A26B-592BF4E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1E039-11A9-46F0-A868-ECA4EE9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75A4-7D8A-4240-93B1-67859641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11F2-5BF9-47FC-BD5E-AA23170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DF42-15D9-48AA-BE7C-5950AAA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9E63-55CC-4E7E-AE39-E7C8322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1FC-0771-4748-BDBB-7FB7DDE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8690-3EED-4EA4-B106-C67A575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6C8E8-5B33-4A59-A636-E483B39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252C-C1E1-4AC5-9F9F-72E136C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89C44-1B81-4D1F-AD37-6F6F570F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DD1E-6160-45FC-BAE1-ABC4E1C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DEDD7-1317-4F1A-AE16-AD224718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1663-787C-49D5-8453-9CDC583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3E0A-545A-4449-85DC-2783EFFC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5E116-382B-47A2-803E-1084248E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BF85-562D-41C0-8D5B-A5EC91E3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F53-6E0D-4C1C-B2CB-EDAA6E8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B15BF-B168-4608-A298-9A1A04A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3F407-9720-4D78-BEEB-CCE0216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1EE77-C61E-4421-8961-9714BF1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6EB73-3162-41EF-9E12-181BB9D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3FB7-F511-44F3-B5F9-2DA7176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EA02C-9C1C-402D-A3EA-DEC3D62F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13A9A-DC94-4A11-B497-4AD229CC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3C90D-FF34-4937-A812-F6F57D7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DAA1-F4F1-4B94-8F45-5E30ED9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FA135-4A2B-46C4-9E34-E767A81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93D-EDDF-4612-BD39-DA3FB21E0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B74-16D1-4B51-B19F-01ABD9BCE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7AC-4A85-466B-9D26-AE36CB1B59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DA7-B507-4C4C-9B86-9CB0D1E25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67F1-D137-4614-95D6-9E3AFA7E1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E9E-518E-404D-9799-782A3B462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5E3E-E4F3-41BB-9276-144B1855A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EB8-870A-4601-9FE6-F4CC551AB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CAC-7772-44F6-892A-4DB1DF144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7FE8-8133-4E5C-8CFE-DE8CCDA0C2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33E-292A-4502-BACE-CC608C31B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8B4F-A899-464B-B5F1-6E54411C60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7AC0-E67D-4C2D-9390-8FA837490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F2D2-42F5-4614-AB67-C4463BF4F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Direct – Indirect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Y – EN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Pronoms Disjoints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33520" y="3048120"/>
            <a:ext cx="7619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2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6840" y="190476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609480" y="1980720"/>
            <a:ext cx="381024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0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914040" y="3124080"/>
            <a:ext cx="7697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m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t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m’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t’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devant un verbe dont la première lettre est une voyell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DAAA4F51-93AD-4DCB-BB2F-D8CC9015A3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761760" y="19810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____________se placent devant le verbe conjugué au </a:t>
            </a:r>
            <a:r>
              <a:rPr b="0" i="1" lang="fr-FR" sz="4800" spc="-1" strike="noStrike">
                <a:solidFill>
                  <a:srgbClr val="404040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404040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44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__________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____________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2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2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_______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Picture 8" descr="j0212957"/>
          <p:cNvPicPr/>
          <p:nvPr/>
        </p:nvPicPr>
        <p:blipFill>
          <a:blip r:embed="rId2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3" name="Picture 8" descr="j0212957"/>
          <p:cNvPicPr/>
          <p:nvPr/>
        </p:nvPicPr>
        <p:blipFill>
          <a:blip r:embed="rId2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26T17:05:10Z</dcterms:modified>
  <cp:revision>105</cp:revision>
  <dc:subject/>
  <dc:title>Allez, viens! – Level 2</dc:title>
</cp:coreProperties>
</file>